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9BAB-68BD-4B2D-ACF7-7AA2292D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F986-F4C3-448E-BED9-17A5AB76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F4921-694F-40BA-AA1B-28095834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6FEED-F009-4456-B6E0-C6587422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44F25-5EDB-4C94-B0FE-365844A9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AAE82-92E5-4410-8422-F5A9A3E5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1C33D-7E47-4703-8FEC-9744EF3A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E0F23-B5C1-496C-9739-93D84E5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C6B66-1356-4E1D-A12C-4A7ECE0B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DD206-DD4E-4DF1-834C-ED67C691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190FC-F5E5-41A6-926C-4FE49CE3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DD9B2-7A09-4917-8D5C-E328DE55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27C2-B1D0-4314-B9B1-22A1741B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0C9BD-ADB5-4E6E-803D-F09F1217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8B805-F1E7-440C-B4AD-44860A15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40A29-A6A3-4BE5-B909-2BEFD8A2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A9E74-515E-46BE-82D2-905D76BE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BA6CC-2DF0-4BED-94E1-B2AF42D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46409-C51D-475A-9C25-7C284692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72929-292A-4412-B80C-B50F9B78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D0EE1-2EF1-4128-A0D0-581839AF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1C94C-3732-48DC-861F-391208C8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B94D8-B6C3-4859-AE94-8CE8CB0A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67FF-9EF4-43BE-A71C-ABDF7462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325B6-8CF6-49B2-A173-42D2ED07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23815-142F-40FD-825E-CCB4CD8F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59023-B043-468E-AC00-4BF2D029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87E5A-F894-4B60-98AB-AA023427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AFD39-D4FA-4064-96A3-F9D174F6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0128B-8888-40FD-BFB6-48FEE736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348CE-83F3-4804-A635-A059C63E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963D1-C27C-4171-A6A5-07A86A9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0DFB9-C071-4280-9791-44F9FE5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4BF9-EB27-4999-96DC-6A7E6891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7B40-7D19-4B37-A003-C9DA6F22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54E17-12B0-4503-B086-A52089A1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C6320-7EDC-42F4-8CAA-4C2C6E9C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65A72-C9C2-40CE-82BD-4D3B4A16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4E7585-E465-437F-A9AC-02FBDD49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D4E793-CC60-4800-AA4D-0FCA13BF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4977BD-0795-4E2B-9DDF-EEB8B557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10E8B6-C8D2-4887-BC67-12BCE123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CD7DA8-C685-4F37-8C8D-64CD2F2D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986F30-EA6B-40B9-AEA9-B70AE130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992706-2910-4D7D-A5B3-D74C8CAC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6674-E31A-4E2A-A66B-BA1AC65D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6E0942-5606-42A4-BF07-5064ED95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3A0F02-9F2A-4C62-B888-E0DF8ECA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4E16CD-1B3A-4E48-BF8B-4D83F2CA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4D757D-739C-4F32-971A-BA0AE136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461907-4176-4FED-8A9C-B6F36B64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68388-9733-457B-8BA2-2F268202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23235-86B5-44F2-8693-1310086C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A3637-BB27-4C9B-87B4-0C32DCB2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D156A-9D5E-4995-A264-6B443187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F3662-8095-488A-B9C8-B6B915F4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44AB-9BA6-454A-AB57-DF803276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07F54-D128-439E-8481-B11E5934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616F9-E010-4379-831B-DA31D7CF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C137C-8222-4785-8529-0D29FF78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D9743-AF51-4572-AFB7-8A3B4701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9078A-BB30-4068-AF5E-CF85E074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58F7C-85BC-4342-A296-5029D495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1466D-C2F1-406A-9BE1-EB593C60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1CFA6-E543-4AD7-A448-910358D8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34FECF-B1D4-4597-BC7F-F9A0FFF9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1981B-9083-4D1D-8991-FCA82BD9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3908-470C-403C-90E6-A0EF9871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B8858-1400-4764-93FA-41E8F1A1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D9B57-0397-42AC-8741-85D3D864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0BAE3-830E-4033-91E3-73F5D2B0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4EF11-4532-49C4-8C73-9CD69D18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05AE8-685C-46ED-9A7D-843C36DE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56198-196E-4EA9-AF4C-819E8DC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01EB3-644A-420B-8EB7-C7ACDBAE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81BF4-22C6-4803-8512-FCD32C86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A3B88-F602-492A-9634-14C1F0BB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AA21A-4B07-4254-A95F-3709C5B2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9979-3425-4175-873B-7DFDC34C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807CE-7984-4616-A8AA-6BF6D12F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DF8B5-F309-4D98-BDAD-6389C7A0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99355-A419-4E57-9024-008DCB8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54E2A-D91B-44E6-841A-16879AD3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F7614-8755-4A1E-87D4-C41FDE3D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1FE95-4D91-40B0-98D1-EA212409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62D58-4815-40D0-929C-CE1E680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515CC-FEF3-490D-8604-29CC129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A5E19-4742-420D-984A-E41448AD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6F9C8-421C-416C-AEA6-853464A3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94EC-D24E-4CCF-924B-6F90461C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9D1B5-8315-4898-AB10-BD9A7DB8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61B6D3-DFBE-4251-ABA8-6F2D5F3B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DD3799-2E12-4A42-B768-954AC405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6E99D-303F-43F3-8542-FD84C577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BED75-F41B-47AE-AD9B-6428D77F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8B4E0-5232-43C2-A72C-79E54B49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22465-EDD5-40AA-B8F5-746E4397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24015-4380-4C80-8D48-72EF1BA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E4408-4B61-4424-8947-3F4BAA47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2D038-ED42-441B-8AC1-9D699551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8903-F44F-4F82-AE8E-758916D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342A9A-99F8-492F-8C0E-2E2493DA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236E7-D643-4637-AB2E-0E413D5B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C6DBA-4769-4EA4-BDCC-D4EEB262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11E6-02B5-4E89-A7A9-DC8F62F4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90C9-3AE9-41B7-8BD8-818BEDC7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AEBA-E877-4BDA-86F6-5F6B4457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2C5E-9301-40B0-BE17-3D5F6FD5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C6B0-BBC3-4EF6-B51C-8AA18420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97F9-2B1F-41BE-8FE2-003F4166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11B0-93AB-438C-817D-D71F327F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9D88-995E-4050-AF99-A29E0E6B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5B1A-E5E4-4C25-93D8-575287E9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E562-1BF4-47A4-BE23-4E8318A7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0885-738E-4323-BD84-B0F2A1A5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460F-AFDC-4EAB-BA72-D0D65D0C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222A-9DEC-46B0-9905-EE685A90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70B4-DAED-4A53-AD31-FABFFD2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91AF-4ABF-4F37-9980-E7E04F4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E360-F594-45BA-80AA-6BE8E160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C501-00A2-4D7B-96C1-62304C8E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7984-1677-4FF7-A42F-3BFFF468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3F6D4-753A-4299-A214-DF04F860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F50ED-A0EA-4091-9831-84023FB0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4140-1FDB-40EB-ACE7-86789BAD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3A633-FE5D-4F0A-A46A-EC78FB0B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9EEB-CFE5-46CF-AB10-4CC7B7FB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94B3F-FCEA-4AB6-B412-D37DC9BF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2A56-F0E9-43DA-AA40-BCC62BFB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CA5DD-B4ED-4229-B85D-E3DD1D75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8D631-C3DC-41F1-946E-74E63E64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929F4-272D-4C8A-9DC6-9EBD9AC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06824-D252-4351-9055-0DA8F6DE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EFA9-2927-4F09-929B-4D72973F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D6EB8-9E59-4AD9-839C-9A59AE01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938F-5F21-44A7-881A-F71E3E16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09803-0CEA-43B4-95D8-8BFF0DF8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912D-FDCC-4202-9F90-2777B6E6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D3EB-3936-4F72-B634-44680E3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1C69A-DC50-4ACE-9C2B-043A16CD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8E64A-D7CB-4B0E-B4D7-D6C944C5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39209-4034-432F-A4D8-E5106920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2D58A-CEBF-4C18-8542-86AA300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7E0F5-6483-47A0-A6A4-849FB50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56EC-C4D2-46B6-8CA9-D727CF91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3E67-04AD-4966-A27F-039A4C3E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9812-93D4-4D49-B7D3-ABE64420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AB8A6-8980-433A-9ABD-9A75FBE6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110A-AF4E-495A-988C-2ED32875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4CA66-737F-44C5-9602-22EEEB55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DCC7A-82C0-40B4-ABC2-A3815A5A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C103C-A70E-4F53-81FA-C5A26D9A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B4A80-E360-4E8B-8D7B-FB8EEF77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F55AD-8EFC-47DB-BEE9-A3B9F97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1B193-F180-478D-ADF4-9AF529AE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8F049-AD6F-4EE8-9D46-286E8D32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A3AE8-D0FF-43E1-AFBB-DD75B7F3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5DA3-2B79-4C0D-8F3B-584D7AEB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3E829-765D-434B-ACB4-6C93E8DB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00AC6-F656-44FE-8D04-25E4088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BDB1B-ADE8-41A4-960A-EA562C1B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7CF29-C94D-495E-A478-640D7B12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20922-64A8-4416-9E6A-CC8DBFC6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8678-5390-480A-91CC-5949EE63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54014-3E4C-4B72-B0AF-C1A4EC5B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F023C-1F4B-4DE1-9089-8E42C823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89F8-C5A1-4C6A-9407-CC35CF2B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120F-F778-40D4-9A69-8A7D3D00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1D922-72E3-46A6-9492-9D292E7C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74748-AF6F-4895-B2DB-EB38541E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62B1-83C9-4C25-ACB4-1066B579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3673E-76EC-4B4D-95F4-D9F19F4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77D18-FF00-4FFD-9FDA-2790096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C2C08-90DA-49FA-BA11-A5CF8A24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FF622-B562-4E74-92A4-CC464C52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56950-7D3C-40C8-B22F-7D6EBDD2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BCB5A-E973-412F-BC6C-4FDED413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59B82-B2FA-4D64-B507-FE6F76D0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F1829-F895-4863-9EB6-B15EA1B6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9FB93-8BAD-4BD7-BE25-C0E7AB6D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21B13-AE0B-4D12-A672-E2E6A465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6425-14A8-47CB-AB37-E8A4B3A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488CF-FC2C-4141-8D7B-02116214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87C50-C0F7-4353-8CF2-7204F88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B1FCD-C51F-462E-9C2E-D1D27627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4F213-75BF-49BC-A24E-5960D094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C5D30-01F2-41A8-9261-1244945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6FF3F-6D94-4A19-867E-5B047474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62F0-DF8F-423B-B2F7-B744C095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F0AC6-5B96-4C4C-B3F3-8D01A0E9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BAE99-E4E0-4D7E-8DD3-FF1B9687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8E83E-2553-4559-92F4-ADB24ECA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9C2B-F027-4500-BDEF-8510C66273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30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31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34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35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43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46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52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2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14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7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48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64F5-7A29-4EF6-9C40-50BD7BAA833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A948-6804-48C4-AE52-7170434C9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BFB-EE1C-4BEE-A477-CBF485225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8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9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9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9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0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0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2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1CCE-BAEE-4FBC-AEE1-DFBF0D8047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8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8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9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0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0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2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38ED-A445-4BB1-9D9F-59392B817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0EA5-CB29-4D10-913E-E4C6AFECC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A1B2-EB29-4EA7-9752-EB9405632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3AF6-6F87-4BC0-A60F-5A01529FBD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E04-B162-498E-B059-D8947B2C7D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0CA9-0257-4662-BBED-4C26DC260B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570-5865-4D24-928F-49EC2B1C6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CFA3-F8BC-4550-B87C-D05C59155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A2A2-8579-497C-BE0B-40282718D8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7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9AF8-22D3-467F-A7F2-A83D4E6E8A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54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55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58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61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68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1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3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6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35E9-C64E-49B4-B83C-7CB6DC8D97B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La Mansion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or Nimish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8" name="" descr=""/>
          <p:cNvPicPr/>
          <p:nvPr/>
        </p:nvPicPr>
        <p:blipFill>
          <a:blip r:embed="rId1"/>
          <a:stretch/>
        </p:blipFill>
        <p:spPr>
          <a:xfrm>
            <a:off x="1295280" y="3127320"/>
            <a:ext cx="6172200" cy="30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Man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una mansion. Es muy estupen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51055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ocina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La cocina es muy be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5" name="" descr=""/>
          <p:cNvPicPr/>
          <p:nvPr/>
        </p:nvPicPr>
        <p:blipFill>
          <a:blip r:embed="rId2"/>
          <a:stretch/>
        </p:blipFill>
        <p:spPr>
          <a:xfrm>
            <a:off x="4495680" y="2101680"/>
            <a:ext cx="4419720" cy="39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629" fill="hold"/>
                                        <p:tgtEl>
                                          <p:spTgt spid="1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comedor. Es muy  grande.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Luxurious Dining Room Decorations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3733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 cuarto.El cuarto es muy fabuloso.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1"/>
          <a:stretch/>
        </p:blipFill>
        <p:spPr>
          <a:xfrm>
            <a:off x="3429000" y="3227400"/>
            <a:ext cx="471492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La sala es muy mod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5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667400" cy="344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n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no.El bano antiquo y vie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2"/>
          <a:stretch/>
        </p:blipFill>
        <p:spPr>
          <a:xfrm>
            <a:off x="1219320" y="2657520"/>
            <a:ext cx="6286320" cy="4200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Pat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patio peque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2"/>
          <a:stretch/>
        </p:blipFill>
        <p:spPr>
          <a:xfrm>
            <a:off x="1752480" y="2895480"/>
            <a:ext cx="5000760" cy="3333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in muy bel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4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6095880" cy="403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4" dur="2000" fill="hold"/>
                                        <p:tgtEl>
                                          <p:spTgt spid="1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55Z</dcterms:created>
  <dc:creator>gargnim</dc:creator>
  <dc:description/>
  <dc:language>en-US</dc:language>
  <cp:lastModifiedBy>gargnim</cp:lastModifiedBy>
  <dcterms:modified xsi:type="dcterms:W3CDTF">2011-10-26T13:41:12Z</dcterms:modified>
  <cp:revision>10</cp:revision>
  <dc:subject/>
  <dc:title>La Casa Nimish</dc:title>
</cp:coreProperties>
</file>